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FD1-1D15-498D-8E2F-BD48F840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1C1-E804-44C5-B80B-AEED7EBC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1A5-D696-4757-8EE6-F43FDD27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B68-8B7E-413E-8DA2-0AEBB855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647-513A-48A1-8572-9D2926D0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EFA-7CDC-400F-A56B-A399D86D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80B-00D0-472A-AE99-AFED8839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CB7-6870-4151-BF20-0A20C0E9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9FC-45A8-4596-9456-642B72E5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D73-B3D9-4467-A5BA-0C06231E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D7F-4522-431D-9447-EE148155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65D-F588-481C-AE2C-A183731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8944-04E2-4D72-86FE-8E8158670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4600"/>
            </a:b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Behind every invention is a good idea.  Everybody has good ideas.  How do inventors turn good ideas into inventions?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ning Warm- Up</a:t>
            </a:r>
            <a:br>
              <a:rPr sz="1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day we will read about some farmers.  They have a problem with mice in their fields.  One farmer has a smart idea for getting rid of the mice.  What do you think is a smart ide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6868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1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ice eat corn, so farmers build mousetraps.  Cats are the best mousetraps though!  What else can cats d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8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day we will read about robots at home.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ch robot is a unique contraption because it does different things to help us around the house.  What kind of robot would you want in your hou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86800" cy="739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rning Warm- Up!</a:t>
            </a:r>
            <a:br>
              <a:rPr sz="26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is week we read about how to turn ideas into inventions.  Pearl and Wagner, the farmers, and Annie all constructed unique contraptions.  How did they do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11:12Z</dcterms:created>
  <dc:creator> </dc:creator>
  <dc:description/>
  <dc:language>en-US</dc:language>
  <cp:lastModifiedBy>teacher</cp:lastModifiedBy>
  <dcterms:modified xsi:type="dcterms:W3CDTF">2010-11-01T00:31:03Z</dcterms:modified>
  <cp:revision>44</cp:revision>
  <dc:subject/>
  <dc:title> Morning Warm- Up! The cat needs some water.  The dog wants a bone.  That bird lives in a birdhouse where she feels quite at home.  How do people take care of pets?</dc:title>
</cp:coreProperties>
</file>